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AB8-CF0D-4091-AC81-2BAFE637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C14-3725-49A1-8D92-1B50EA5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657-C9D6-48DD-A43E-E02FA988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769-E4ED-4E51-B6D1-64D25FAD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E48-113C-4DFF-8469-3C858061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51A-42D6-4215-875A-DC0AC9D4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E97-A439-4F98-98C3-83D5BE70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589-A4A4-44CA-A091-7316EF47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528-1D39-4ED2-825B-69B1627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FE5-4945-4C6C-89E3-68110364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99C-162A-4293-B5AE-71B4B7A4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806-23CE-4881-8F93-5DEFB9B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25C2-A611-4C08-90DD-E85B3EF25D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hyperlink" Target="file:///&#1055;&#1088;&#1077;&#1079;&#1077;&#1085;&#1090;&#1072;&#1094;&#1080;&#1103;%20Microsoft%20PowerPoint.ppt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file:///&#1055;&#1088;&#1080;&#1083;&#1080;&#1074;&#1085;&#1099;&#1077;%20&#1101;&#1083;&#1077;&#1082;&#1090;&#1088;&#1086;&#1089;&#1090;&#1072;&#1085;&#1094;&#1080;&#1080;.ppt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-857160" y="-603360"/>
            <a:ext cx="10001160" cy="802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роизводство, передача и использование электрической энерг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859280" y="46418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устроен трансформатор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777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состоит из замкнутого стального сердечника, собранного из пластин, на который надеты две катушки с проволочными обмотками. Первичная обмотка подключается к источнику переменного напряжения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вторичной обмотке присоединяют нагру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6" descr="tp12"/>
          <p:cNvPicPr/>
          <p:nvPr/>
        </p:nvPicPr>
        <p:blipFill>
          <a:blip r:embed="rId1"/>
          <a:stretch/>
        </p:blipFill>
        <p:spPr>
          <a:xfrm>
            <a:off x="6227640" y="4076640"/>
            <a:ext cx="2700360" cy="234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30341640_1"/>
          <p:cNvPicPr/>
          <p:nvPr/>
        </p:nvPicPr>
        <p:blipFill>
          <a:blip r:embed="rId2"/>
          <a:stretch/>
        </p:blipFill>
        <p:spPr>
          <a:xfrm>
            <a:off x="250920" y="4005360"/>
            <a:ext cx="3457440" cy="24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knigi-183"/>
          <p:cNvPicPr/>
          <p:nvPr/>
        </p:nvPicPr>
        <p:blipFill>
          <a:blip r:embed="rId3"/>
          <a:stretch/>
        </p:blipFill>
        <p:spPr>
          <a:xfrm>
            <a:off x="7812000" y="1844640"/>
            <a:ext cx="10908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изводство и использование электрической энерг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0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Виды электростанци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ahoma"/>
              </a:rPr>
              <a:t>Теплов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ahoma"/>
              </a:rPr>
              <a:t>Гидроэлектроста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ahoma"/>
              </a:rPr>
              <a:t>Атом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24000" y="9810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ЭС производят 62% электроэнергии в ми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идируют в производстве США, Кита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оссия, Япония, Гер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еимущественно на угл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ботают ТЭС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льше, ЮА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нефт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Саудовской Арави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увейте, ОАЭ, Алжир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10" descr="image032"/>
          <p:cNvPicPr/>
          <p:nvPr/>
        </p:nvPicPr>
        <p:blipFill>
          <a:blip r:embed="rId1"/>
          <a:stretch/>
        </p:blipFill>
        <p:spPr>
          <a:xfrm>
            <a:off x="4356000" y="2421000"/>
            <a:ext cx="4629240" cy="324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619280" y="189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Тепловые электро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79280" y="1341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ЭС производят 20% мировой вырабо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ыделяются Канада, СШ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разилия, Россия, Кит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орвегия – 99,5%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разилия – 93%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иргизия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джикистан – 9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идропотенци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осредоточен в странах Юг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собенно в Китае и Бразил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image039"/>
          <p:cNvPicPr/>
          <p:nvPr/>
        </p:nvPicPr>
        <p:blipFill>
          <a:blip r:embed="rId1"/>
          <a:stretch/>
        </p:blipFill>
        <p:spPr>
          <a:xfrm>
            <a:off x="4572000" y="1773360"/>
            <a:ext cx="4572000" cy="300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53840" y="40464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идроэлектро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468360" y="11970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ЭС производят 17% мировой вырабо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чало ХХ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эксплуатиру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50 АЭС, работ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40 энергобло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льше всего СШ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ранции, Японии, ФРГ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оссии, Кана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рановый концентра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3O8)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редоточен в следу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ранах: Канаде, Австралии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мибии, США,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image042"/>
          <p:cNvPicPr/>
          <p:nvPr/>
        </p:nvPicPr>
        <p:blipFill>
          <a:blip r:embed="rId1"/>
          <a:stretch/>
        </p:blipFill>
        <p:spPr>
          <a:xfrm>
            <a:off x="4284720" y="2421000"/>
            <a:ext cx="4390920" cy="2863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52400" y="304920"/>
            <a:ext cx="54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томные электро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617840" y="332640"/>
            <a:ext cx="66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равнение типов электростан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2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1640" y="1268280"/>
          <a:ext cx="7454880" cy="5508720"/>
        </p:xfrm>
        <a:graphic>
          <a:graphicData uri="http://schemas.openxmlformats.org/drawingml/2006/table">
            <a:tbl>
              <a:tblPr/>
              <a:tblGrid>
                <a:gridCol w="1785960"/>
                <a:gridCol w="1218960"/>
                <a:gridCol w="1239840"/>
                <a:gridCol w="1347840"/>
                <a:gridCol w="866880"/>
                <a:gridCol w="995400"/>
              </a:tblGrid>
              <a:tr h="222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электростанц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ыбр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ред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еществ в атмосферы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имаем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отреб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чистой 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2000" spc="-1" strike="noStrike" baseline="30000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бр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гряз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оды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2000" spc="-1" strike="noStrike" baseline="30000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тр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охра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ЭЦ: уг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ЭЦ: мазу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ГЭ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АЭ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Э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Э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БЭ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ahoma"/>
              </a:rPr>
              <a:t>Использование электроэнерги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ышленность (7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ственные и бытовые нуж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в технологических цел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«Пусть не напрасно греет и светит Солнце, пусть не напрасно течет вода и бьются волны о берег. Надо отнять у них бесцельно расточаемые дары природы и покорить их, связав по своему желани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           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н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ahoma"/>
              </a:rPr>
              <a:t>Альтернативные виды электроэнер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Comic Sans MS"/>
              </a:rPr>
              <a:t>Солнеч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Comic Sans MS"/>
              </a:rPr>
              <a:t>Ветря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Comic Sans MS"/>
              </a:rPr>
              <a:t>Приливные и геотермаль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Электрическая энергия обладает неоспоримыми преимуществами перед всеми другими видами энергии. Ее можно передавать по проводам на огромные расстояния со сравнительно малыми потерями и удобно распределять между потребителям. Главное же в том, что эту энергию с помощью достаточно простых устройств легко превратит в любые другие формы: механическую, внутреннюю (нагревание тел), энергию св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476360" y="549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Солнечные электростан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image030"/>
          <p:cNvPicPr/>
          <p:nvPr/>
        </p:nvPicPr>
        <p:blipFill>
          <a:blip r:embed="rId1"/>
          <a:stretch/>
        </p:blipFill>
        <p:spPr>
          <a:xfrm>
            <a:off x="214200" y="2041560"/>
            <a:ext cx="3710160" cy="27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7" descr="image026"/>
          <p:cNvPicPr/>
          <p:nvPr/>
        </p:nvPicPr>
        <p:blipFill>
          <a:blip r:embed="rId2"/>
          <a:stretch/>
        </p:blipFill>
        <p:spPr>
          <a:xfrm>
            <a:off x="4572000" y="2492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333px-Laundromat-SolarCell.png"/>
          <p:cNvPicPr/>
          <p:nvPr/>
        </p:nvPicPr>
        <p:blipFill>
          <a:blip r:embed="rId3"/>
          <a:stretch/>
        </p:blipFill>
        <p:spPr>
          <a:xfrm>
            <a:off x="2916360" y="3573360"/>
            <a:ext cx="4103640" cy="3068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990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8">
            <a:hlinkClick r:id="rId4"/>
          </p:cNvPr>
          <p:cNvSpPr/>
          <p:nvPr/>
        </p:nvSpPr>
        <p:spPr>
          <a:xfrm>
            <a:off x="395280" y="616572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Intel вкладывает в солнечные электростан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5181480" y="335448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Intel вкладывает в солнечные электростанции большое количество ден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w"/>
          <p:cNvPicPr/>
          <p:nvPr/>
        </p:nvPicPr>
        <p:blipFill>
          <a:blip r:embed="rId1"/>
          <a:stretch/>
        </p:blipFill>
        <p:spPr>
          <a:xfrm>
            <a:off x="0" y="2895480"/>
            <a:ext cx="2773440" cy="396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we-1000_vid02"/>
          <p:cNvPicPr/>
          <p:nvPr/>
        </p:nvPicPr>
        <p:blipFill>
          <a:blip r:embed="rId2"/>
          <a:stretch/>
        </p:blipFill>
        <p:spPr>
          <a:xfrm>
            <a:off x="5508720" y="1125360"/>
            <a:ext cx="2900160" cy="371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ветряки"/>
          <p:cNvPicPr/>
          <p:nvPr/>
        </p:nvPicPr>
        <p:blipFill>
          <a:blip r:embed="rId3"/>
          <a:stretch/>
        </p:blipFill>
        <p:spPr>
          <a:xfrm>
            <a:off x="4356000" y="3500280"/>
            <a:ext cx="4249800" cy="3181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111600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етряные электростан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4" descr="image004"/>
          <p:cNvPicPr/>
          <p:nvPr/>
        </p:nvPicPr>
        <p:blipFill>
          <a:blip r:embed="rId4"/>
          <a:stretch/>
        </p:blipFill>
        <p:spPr>
          <a:xfrm>
            <a:off x="1979640" y="1773360"/>
            <a:ext cx="367344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116000" y="18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Приливные и геотермальны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электростан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mage022"/>
          <p:cNvPicPr/>
          <p:nvPr/>
        </p:nvPicPr>
        <p:blipFill>
          <a:blip r:embed="rId1"/>
          <a:stretch/>
        </p:blipFill>
        <p:spPr>
          <a:xfrm>
            <a:off x="179280" y="1479600"/>
            <a:ext cx="4392720" cy="29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приливная"/>
          <p:cNvPicPr/>
          <p:nvPr/>
        </p:nvPicPr>
        <p:blipFill>
          <a:blip r:embed="rId2"/>
          <a:stretch/>
        </p:blipFill>
        <p:spPr>
          <a:xfrm>
            <a:off x="2700360" y="3860640"/>
            <a:ext cx="381636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mage018"/>
          <p:cNvPicPr/>
          <p:nvPr/>
        </p:nvPicPr>
        <p:blipFill>
          <a:blip r:embed="rId3"/>
          <a:stretch/>
        </p:blipFill>
        <p:spPr>
          <a:xfrm>
            <a:off x="4932360" y="1700280"/>
            <a:ext cx="4032360" cy="2871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>
            <a:hlinkClick r:id="rId4"/>
          </p:cNvPr>
          <p:cNvSpPr/>
          <p:nvPr/>
        </p:nvSpPr>
        <p:spPr>
          <a:xfrm>
            <a:off x="250920" y="6308640"/>
            <a:ext cx="1042920" cy="395280"/>
          </a:xfrm>
          <a:custGeom>
            <a:avLst/>
            <a:gdLst>
              <a:gd name="textAreaLeft" fmla="*/ 25560 w 1042920"/>
              <a:gd name="textAreaRight" fmla="*/ 1017360 w 1042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6958" h="21600">
                <a:moveTo>
                  <a:pt x="0" y="0"/>
                </a:moveTo>
                <a:lnTo>
                  <a:pt x="56958" y="0"/>
                </a:lnTo>
                <a:lnTo>
                  <a:pt x="56958" y="21600"/>
                </a:lnTo>
                <a:lnTo>
                  <a:pt x="0" y="21600"/>
                </a:lnTo>
                <a:close/>
              </a:path>
              <a:path fill="lightenLess" w="56958" h="21600">
                <a:moveTo>
                  <a:pt x="0" y="0"/>
                </a:moveTo>
                <a:lnTo>
                  <a:pt x="56958" y="0"/>
                </a:lnTo>
                <a:lnTo>
                  <a:pt x="55558" y="1400"/>
                </a:lnTo>
                <a:lnTo>
                  <a:pt x="1400" y="1400"/>
                </a:lnTo>
                <a:close/>
              </a:path>
              <a:path fill="darken" w="56958" h="21600">
                <a:moveTo>
                  <a:pt x="56958" y="0"/>
                </a:moveTo>
                <a:lnTo>
                  <a:pt x="56958" y="21600"/>
                </a:lnTo>
                <a:lnTo>
                  <a:pt x="55558" y="20200"/>
                </a:lnTo>
                <a:lnTo>
                  <a:pt x="55558" y="1400"/>
                </a:lnTo>
                <a:close/>
              </a:path>
              <a:path fill="darkenLess" w="56958" h="21600">
                <a:moveTo>
                  <a:pt x="56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58" y="20200"/>
                </a:lnTo>
                <a:close/>
              </a:path>
              <a:path fill="lighten" w="56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643280" y="954000"/>
            <a:ext cx="428652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018800" y="210960"/>
            <a:ext cx="57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Передача электроэнер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1197000"/>
            <a:ext cx="541008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028880" y="600120"/>
            <a:ext cx="70866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j0185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Эффективное использование электроэнерг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еобразование солнечной энергии в электрическую "напрямую" - с помощью фотоэлектрических установок (солнечных батаре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вышение напряжения на линии передач (в промышленности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объединение электростанций в электроэнергетические сис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нижение энергозатрат электроэнергии с помощью энергосберегающих технологий и современного оборудования, потребляющего минимальное ее количе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Передача электроэнергии на большие расстояния с малыми потерями – сложная задача. Использование электрического тока высокого напряжения помогает успешно разрешить её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Tahoma"/>
              </a:rPr>
              <a:t>Преимущество электрической энер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Можно передавать по провод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Можно трансформиров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Легко превращается в другие виды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Легко получается из других видов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енератор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3c2e0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стройство, преобразующее энергию того или иного вида в электрическую энергию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99ff"/>
                </a:solidFill>
                <a:latin typeface="Tahoma"/>
              </a:rPr>
              <a:t>К генераторам относятся гальванические элементы, электростатические машины, термобатареи, солнечные батаре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5" descr="062"/>
          <p:cNvPicPr/>
          <p:nvPr/>
        </p:nvPicPr>
        <p:blipFill>
          <a:blip r:embed="rId1"/>
          <a:stretch/>
        </p:blipFill>
        <p:spPr>
          <a:xfrm>
            <a:off x="684360" y="3429000"/>
            <a:ext cx="7920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стройство генерат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Генератор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ксплуатация генерат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2400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Генерировать энергию можно либо вращая виток в поле постоянного магнита, либо виток поместить в изменяющееся магнитное поле (вращать магнит, оставляя виток неподвижны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gen00_300"/>
          <p:cNvPicPr/>
          <p:nvPr/>
        </p:nvPicPr>
        <p:blipFill>
          <a:blip r:embed="rId1"/>
          <a:stretch/>
        </p:blipFill>
        <p:spPr>
          <a:xfrm>
            <a:off x="6443640" y="3265560"/>
            <a:ext cx="2556000" cy="359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g290"/>
          <p:cNvPicPr/>
          <p:nvPr/>
        </p:nvPicPr>
        <p:blipFill>
          <a:blip r:embed="rId2"/>
          <a:stretch/>
        </p:blipFill>
        <p:spPr>
          <a:xfrm>
            <a:off x="179280" y="4292640"/>
            <a:ext cx="28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97080" y="260280"/>
            <a:ext cx="80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Современные электрогенерато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3961080" cy="337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0243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генератора в производстве электрической энерг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Важнейшие детали генератора изготавливаются очень точно. Нигде в природе нет такого сочетания движущихся частей, которые могли бы порождать электрическую энергию столь же непрерывно и экономич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alternator1"/>
          <p:cNvPicPr/>
          <p:nvPr/>
        </p:nvPicPr>
        <p:blipFill>
          <a:blip r:embed="rId1"/>
          <a:stretch/>
        </p:blipFill>
        <p:spPr>
          <a:xfrm>
            <a:off x="179280" y="4149720"/>
            <a:ext cx="4321440" cy="270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6651"/>
          <p:cNvPicPr/>
          <p:nvPr/>
        </p:nvPicPr>
        <p:blipFill>
          <a:blip r:embed="rId2"/>
          <a:stretch/>
        </p:blipFill>
        <p:spPr>
          <a:xfrm>
            <a:off x="5364000" y="3836880"/>
            <a:ext cx="35848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ансформа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образование переменного тока, при котором напряжение увеличивается или уменьшается в несколько раз практически без потери мощности, осуществляется с помощью трансформатор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296794_w640_h640_44"/>
          <p:cNvPicPr/>
          <p:nvPr/>
        </p:nvPicPr>
        <p:blipFill>
          <a:blip r:embed="rId1"/>
          <a:stretch/>
        </p:blipFill>
        <p:spPr>
          <a:xfrm>
            <a:off x="6156360" y="5373720"/>
            <a:ext cx="2663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2:54:27Z</dcterms:created>
  <dc:creator>Sam</dc:creator>
  <dc:description/>
  <dc:language>en-US</dc:language>
  <cp:lastModifiedBy>Хава</cp:lastModifiedBy>
  <dcterms:modified xsi:type="dcterms:W3CDTF">2023-03-07T08:04:06Z</dcterms:modified>
  <cp:revision>23</cp:revision>
  <dc:subject/>
  <dc:title>Производство, передача  и использование электрической энергии</dc:title>
</cp:coreProperties>
</file>